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ct" ContentType="image/x-pict"/>
  <Override PartName="/ppt/media/image3.jpeg" ContentType="image/jpeg"/>
  <Override PartName="/ppt/media/image4.jpeg" ContentType="image/jpeg"/>
  <Override PartName="/ppt/media/image2.png" ContentType="image/png"/>
  <Override PartName="/ppt/media/image23.pct" ContentType="image/x-pict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pct" ContentType="image/x-pict"/>
  <Override PartName="/ppt/media/image1.jpeg" ContentType="image/jpeg"/>
  <Override PartName="/ppt/media/image14.jpeg" ContentType="image/jpeg"/>
  <Override PartName="/ppt/media/image15.jpeg" ContentType="image/jpeg"/>
  <Override PartName="/ppt/media/image29.pct" ContentType="image/x-pict"/>
  <Override PartName="/ppt/media/image16.jpeg" ContentType="image/jpeg"/>
  <Override PartName="/ppt/media/image17.jpeg" ContentType="image/jpeg"/>
  <Override PartName="/ppt/media/image18.jpeg" ContentType="image/jpeg"/>
  <Override PartName="/ppt/media/image24.pct" ContentType="image/x-pict"/>
  <Override PartName="/ppt/media/image20.jpeg" ContentType="image/jpeg"/>
  <Override PartName="/ppt/media/image26.pct" ContentType="image/x-pict"/>
  <Override PartName="/ppt/media/image21.jpeg" ContentType="image/jpeg"/>
  <Override PartName="/ppt/media/image19.jpeg" ContentType="image/jpeg"/>
  <Override PartName="/ppt/media/image22.pct" ContentType="image/x-pict"/>
  <Override PartName="/ppt/media/image7.jpeg" ContentType="image/jpeg"/>
  <Override PartName="/ppt/media/image25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5B3-7759-413B-9E76-3401533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978-FAA0-4E28-AC0D-7E9FB61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AEB-2630-4A71-AC12-0DEC5673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A76-83F7-4658-9DB9-5BCA6DA2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F7D-0C07-4282-A45F-FF11EEE8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0448-DFF8-4036-8C05-AF69F71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1FB-5EA7-4193-B804-D8385B2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E29-BF97-45B3-B52E-78A8EA9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2D2-E23B-49A9-8188-675CF33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8312-6BA6-4F21-B2D4-10B8FA04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FF31-C81D-48C6-91DE-E29145C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223-F277-470A-82E6-8429E449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F610-7482-41FF-9C13-7E80796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8CF-21B7-4930-8492-ECD2B86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259-C1B4-4FB3-92FE-38A598F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8BC-0870-42E5-BD0B-68A7DE18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40A4-492D-4CD2-9A3F-2CBF6235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0EF-D74B-4B2E-86F0-51D0B69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BB7-32D3-4D5A-9899-D5BBBB60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036-A15A-41D0-A5C3-7F84DDEE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655-38CB-4396-B80B-7B65BC1E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D05-386A-4F0B-93BF-EE13FF8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075-C55E-4381-B726-424DB5A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393-88D5-45D5-8856-B0A3B1D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8584-9391-4AF2-B5E7-FDE45B79FC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CB9-621E-4056-8B6D-336B5192C4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uenca, Espa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Fiestas y Tra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iesta de la Virgen de la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iestas de San Mateo y San Juliá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na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7200" cy="266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emana Sa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ana Sa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mingo de Ra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unes la “Borriquilla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tes proces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del Perd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iércoles procesión del Silenci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Jueves proces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de la Paz y la Carid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ernes 3 proce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c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ón Camino del Calv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n el Calv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l Santo Entier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mingo de Resurrec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emana Sa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124080" cy="38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540160" cy="302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236232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Mús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ristia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zc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Jo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llanc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6170400" cy="33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Gastronom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sc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t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tos origin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tos Origin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zpach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rterue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Zara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joar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t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laj</a:t>
            </a: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La torr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Los oble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Vino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ominaciones de Origen La Man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Manchue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ibera de J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ú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l resoli - lic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staurantes y Ba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Mesón Casas Colgad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Re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da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ya V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aj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828800" cy="270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ograf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895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enca 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ituado 140 km. sor-este de Madrid y 160 km. nor-oeste de Val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re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de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: Castilla-La Man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° región poco poblado en Españ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a ciudad está situado entre montañas y acantilados emp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943600" cy="520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86400" y="3657600"/>
            <a:ext cx="457200" cy="76320"/>
          </a:xfrm>
          <a:prstGeom prst="line">
            <a:avLst/>
          </a:prstGeom>
          <a:ln w="57240">
            <a:solidFill>
              <a:srgbClr val="7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171840" y="3809520"/>
            <a:ext cx="609480" cy="304920"/>
          </a:xfrm>
          <a:prstGeom prst="line">
            <a:avLst/>
          </a:prstGeom>
          <a:ln w="57240">
            <a:solidFill>
              <a:srgbClr val="7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3352680"/>
            <a:ext cx="12952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FranklinGotTDemCon"/>
              </a:rPr>
              <a:t>CUENCA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FranklinGotTDemCon"/>
              <a:ea typeface="FranklinGotTDemCo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iudad de Cuen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733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udad Nueva y Ciudad Anti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Ciudad Antigua: un buen ejemplo de un ciudad med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dos rios a lado de la ciudad: el Júcar y el Huéc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iudad Antigua: calles muy anchos del Siglo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as construido por los acanti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as casas famosas se llaman “casas colgada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297180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78596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as Col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5257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a Ciudad Antigua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an construidos en el Siglo 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aspeto 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conocido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dos como parte de las acanti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514680" cy="540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Museo del Arte Abstrac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o muy famoso del arte abstracto en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y Euro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asa colgada 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s famosa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l edificio estaba constuido en el siglo 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na de las casas más preser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if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eneral: 3 €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ducida: 1,50 € (estudiante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tuita: niños menores de 10 a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327348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imgPhoto" descr="Vista de una de las salas"/>
          <p:cNvPicPr/>
          <p:nvPr/>
        </p:nvPicPr>
        <p:blipFill>
          <a:blip r:embed="rId2"/>
          <a:stretch/>
        </p:blipFill>
        <p:spPr>
          <a:xfrm>
            <a:off x="6934320" y="1295280"/>
            <a:ext cx="20779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13372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Plaza May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laza Mayor es la plaza principal de Cuenca en el centro de l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es de tapas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520" y="44193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e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rcos de Ayun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ated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4762800" cy="22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atedr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2160" y="441936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a Plaza 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do en los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12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lo Go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f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çade es mas moderna que el interior (los años 15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rada gratis, sino el Museo Catedral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953240" cy="32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51468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atedr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810240" cy="230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886200" cy="312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800600" cy="3125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29400" y="228600"/>
            <a:ext cx="23814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21430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ros Siti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iudad Encant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ca de Cuenca: 30 km. de l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aciones de piedra antiguos y ra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piedra tiene nombres disti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paisaje linda para andar o conduc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uente San Pab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 mejor lugar a ver las casas colg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ca del Museo del Arte Abstra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Cuenca travelogue picture"/>
          <p:cNvPicPr/>
          <p:nvPr/>
        </p:nvPicPr>
        <p:blipFill>
          <a:blip r:embed="rId1"/>
          <a:stretch/>
        </p:blipFill>
        <p:spPr>
          <a:xfrm>
            <a:off x="3352680" y="1447920"/>
            <a:ext cx="9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639040" cy="324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sa Burchett</cp:lastModifiedBy>
  <dcterms:modified xsi:type="dcterms:W3CDTF">2008-03-11T13:02:29Z</dcterms:modified>
  <cp:revision>1</cp:revision>
  <dc:subject/>
  <dc:title>Cuenca, España</dc:title>
</cp:coreProperties>
</file>